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7360" y="749160"/>
            <a:ext cx="6623280" cy="372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94467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67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  <a:defRPr b="0" lang="es-ES_tradnl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26BC7427-34F0-48E9-BE4E-E848AF6A4236}" type="slidenum"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360" y="749160"/>
            <a:ext cx="6623280" cy="3726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Marcador de número de diapositiva 3"/>
          <p:cNvSpPr/>
          <p:nvPr/>
        </p:nvSpPr>
        <p:spPr>
          <a:xfrm>
            <a:off x="3884760" y="944712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01EDC0D7-04C2-4A43-9A46-2D8961873AE1}" type="slidenum">
              <a:rPr b="0" lang="es-ES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B3A-318C-484F-8B21-2E934F79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307-CE9E-411A-9CAF-4600843D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75E-6212-4410-996A-A1202CB6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A2A-9436-4D79-A043-31E39DCF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BD4B-C796-4F88-BAFA-0AF96BEA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FF67-852E-456A-B590-02F45A8B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73F6-A166-4805-B5FD-4CA4999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1EB0-94C1-4A1A-8F88-7127F62A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D97E-49C4-4C80-A83D-EC10850E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A294-2E61-4B4D-9601-92F08147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F8CB-8AB9-4267-9E77-F315769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A77-AEAF-4B57-AD07-F2F0AA0C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DAB8-956B-4FF7-8B5C-04FC5AE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F2B3-17AF-4D98-87EC-0CD5666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9C3B-7D9E-46A5-BE86-E589DCEE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DCB9-D7A3-4833-88EC-62E21D8F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B2C9-1020-407D-84FE-2DA6484D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C53CF-0D4D-4C39-92EC-44FDB65F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B360-8AB6-4293-B28E-42401BF4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C42DB-0F58-42FA-BF41-6BB78205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5306-0456-44B0-87BD-AB7518AF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4FAA-5D52-41DA-BCEA-81DC3FD9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984-7680-4581-9AB5-F62890ED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C540-C505-451A-8A7D-288BE2C6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1268-D25F-4222-BA47-321E5B75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D924E-3102-4E9D-B28D-B8FB0D45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5CDF-58E4-4580-A06E-640E38A6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77C4-60A8-4515-BF8A-DDE5C467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EDF5-5C85-4D83-A580-BDFB505E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D0D5-D5F3-43E1-AA04-FC6CB4EF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7AA2-604C-458F-99CB-6A35DCFF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C4C0-3909-4942-A0EB-A248BA26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CE9C-AF36-4413-9F82-371C8206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884-7146-4432-BA2D-72D6F39E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6E70-867B-412E-A3FE-4A016F2F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A4276-B320-4EC6-8E52-0AD54DD4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40EC-825E-4AD2-972E-E104D546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85AC-5148-4598-B235-EE0A0D70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A4383-9060-44C5-B98E-612F061D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DEEA-588C-44D9-8D53-A5178BA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14BC-DBCA-4681-9422-BD091A2B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75129-A72E-4AC7-A206-A6A52086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D900-65FA-44A7-9591-3904A482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279E-36EA-4471-BB99-EC014AD9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A44-5E24-49BB-9C74-69406E4D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C1F8-3B5F-42C6-80C7-2932F9FB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60C5-89F6-4C4B-BD82-F642144B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9915C-0573-411A-93F2-003F7040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60485-D27E-4DBC-A295-EC6C16D9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6599D-665E-44F4-B1FE-32921A4B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ADBF-9271-4587-8A27-BAE357D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D589E-C94F-4349-A159-861B337E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693B2-F637-4601-BE1B-6567821B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E01E8-4958-4BEA-AF49-67565E74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1F4C-2485-4A1B-BC99-379410C5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EEB-3F37-4242-B26C-C6B1EF02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29DF1-F016-485A-998D-644EA326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23F5-CF21-4B7B-ABFB-2CE23956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62CF-6591-4905-8EB7-C1D42FB9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F02BD-E42C-44F4-8939-A7115FE7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6AF29-2804-4636-A3B1-8E701C20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46DC-2FBF-4858-A773-9D1A9DAD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8207E-13CF-4304-89DC-D6103DD5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5AA2-1F59-48C7-A754-B265012C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F2273-6BE7-4CAD-A231-7B4A4B58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BAEAB-FB12-4D37-B736-F46256D9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3DC-901D-4D85-9848-BAAE4D25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CCBE9-AD78-4452-9E34-A2787B95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7188-BC37-4D29-AA12-448DCDB1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49A53-863B-4139-B01B-A978867F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F562A-6524-4891-8ACA-B0B1FB01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7D364-7184-4BD4-8009-B741D851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9D41B-7DB5-42D7-8EF1-6E23A58F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35287-EC9B-47D9-A093-D97BE6D5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95272-AB00-442D-84A0-FF32D8AE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74222-0683-43F0-90A1-A52D11AE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06AD5-677B-4409-A0AA-DA0525E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A18-D90E-472E-8F7B-9A75422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70853-B13D-4DF6-BC52-F97AB45E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B6D04-375E-4BBC-8C40-BA9DF05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7C47D-FE7F-4020-9C0B-8925A029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39B0-382A-4C16-81D6-D0760FAF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79F78-DB0C-456A-97EC-BEFDB253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2AB-9EC6-401E-9135-D07ECD9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FAE6-8038-488D-8C55-D1DE186904DE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3-HD-BTM.png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571C-E467-4CC4-B333-357184F74F7A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0B3-F993-4D90-A998-BF5B317B186F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6936-A8DE-44B9-933A-698BB88ED15F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 Black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C5A2-AD6D-44FA-9DC9-598E99F8C9FB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1D02-774B-494A-B8F5-7D8F9D0668B2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DEE4-B5DC-4141-BB57-56DC49A3F8AE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" Target="slide17.xml"/><Relationship Id="rId6" Type="http://schemas.openxmlformats.org/officeDocument/2006/relationships/slide" Target="slide5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5"/>
          <p:cNvSpPr/>
          <p:nvPr/>
        </p:nvSpPr>
        <p:spPr>
          <a:xfrm>
            <a:off x="1523880" y="29084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Rectangle 26"/>
          <p:cNvSpPr/>
          <p:nvPr/>
        </p:nvSpPr>
        <p:spPr>
          <a:xfrm>
            <a:off x="1523880" y="348948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Rectangle 27"/>
          <p:cNvSpPr/>
          <p:nvPr/>
        </p:nvSpPr>
        <p:spPr>
          <a:xfrm>
            <a:off x="1523880" y="29084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Rectangle 28"/>
          <p:cNvSpPr/>
          <p:nvPr/>
        </p:nvSpPr>
        <p:spPr>
          <a:xfrm>
            <a:off x="1523880" y="348948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6616800" y="6000840"/>
            <a:ext cx="3622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9" name="12 Imagen" descr="FONDO_MOD_2-01.tif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25"/>
          <p:cNvSpPr/>
          <p:nvPr/>
        </p:nvSpPr>
        <p:spPr>
          <a:xfrm>
            <a:off x="6004080" y="290844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6004080" y="348948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Rectangle 27"/>
          <p:cNvSpPr/>
          <p:nvPr/>
        </p:nvSpPr>
        <p:spPr>
          <a:xfrm>
            <a:off x="6004080" y="290844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Rectangle 28"/>
          <p:cNvSpPr/>
          <p:nvPr/>
        </p:nvSpPr>
        <p:spPr>
          <a:xfrm>
            <a:off x="6004080" y="348948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Rectangle 25"/>
          <p:cNvSpPr/>
          <p:nvPr/>
        </p:nvSpPr>
        <p:spPr>
          <a:xfrm>
            <a:off x="6616800" y="6000840"/>
            <a:ext cx="3622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15" name="CuadroTexto 4"/>
          <p:cNvGrpSpPr/>
          <p:nvPr/>
        </p:nvGrpSpPr>
        <p:grpSpPr>
          <a:xfrm>
            <a:off x="3164040" y="1792440"/>
            <a:ext cx="7291080" cy="1785960"/>
            <a:chOff x="3164040" y="1792440"/>
            <a:chExt cx="7291080" cy="1785960"/>
          </a:xfrm>
        </p:grpSpPr>
        <p:pic>
          <p:nvPicPr>
            <p:cNvPr id="316" name="CuadroTexto 4" descr=""/>
            <p:cNvPicPr/>
            <p:nvPr/>
          </p:nvPicPr>
          <p:blipFill>
            <a:blip r:embed="rId2"/>
            <a:stretch/>
          </p:blipFill>
          <p:spPr>
            <a:xfrm>
              <a:off x="3164040" y="1792440"/>
              <a:ext cx="72910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524400" y="1844640"/>
              <a:ext cx="69120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6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1" i="1" lang="es-MX" sz="2600" spc="-1" strike="noStrike">
                  <a:solidFill>
                    <a:srgbClr val="000000"/>
                  </a:solidFill>
                  <a:latin typeface="Arial Black"/>
                </a:rPr>
                <a:t>INFORMACIÓN PRESUPUESTARIA</a:t>
              </a:r>
              <a:endParaRPr b="1" i="1" lang="en-US" sz="2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500" spc="-1" strike="noStrike">
                  <a:solidFill>
                    <a:srgbClr val="000000"/>
                  </a:solidFill>
                  <a:latin typeface="Arial Black"/>
                </a:rPr>
                <a:t>     </a:t>
              </a:r>
              <a:r>
                <a:rPr b="1" i="1" lang="es-MX" sz="2500" spc="-1" strike="noStrike">
                  <a:solidFill>
                    <a:srgbClr val="000000"/>
                  </a:solidFill>
                  <a:latin typeface="Arial Black"/>
                </a:rPr>
                <a:t>EJERCICIO FISCAL 2015</a:t>
              </a:r>
              <a:endParaRPr b="1" i="1" lang="en-US" sz="2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18" name="CuadroTexto 1"/>
          <p:cNvSpPr/>
          <p:nvPr/>
        </p:nvSpPr>
        <p:spPr>
          <a:xfrm>
            <a:off x="5103720" y="5024520"/>
            <a:ext cx="428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 Black"/>
              </a:rPr>
              <a:t>CPC. ISABEL CANORIO SALCEDO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 Black"/>
              </a:rPr>
              <a:t>DIRECCIÓN GENERAL DE CONTABILIDAD PÚBLICA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Imagen 2" descr=""/>
          <p:cNvPicPr/>
          <p:nvPr/>
        </p:nvPicPr>
        <p:blipFill>
          <a:blip r:embed="rId1"/>
          <a:stretch/>
        </p:blipFill>
        <p:spPr>
          <a:xfrm>
            <a:off x="2782800" y="33480"/>
            <a:ext cx="7705800" cy="6784920"/>
          </a:xfrm>
          <a:prstGeom prst="rect">
            <a:avLst/>
          </a:prstGeom>
          <a:ln w="0">
            <a:noFill/>
          </a:ln>
        </p:spPr>
      </p:pic>
      <p:sp>
        <p:nvSpPr>
          <p:cNvPr id="413" name="CuadroTexto 2"/>
          <p:cNvSpPr/>
          <p:nvPr/>
        </p:nvSpPr>
        <p:spPr>
          <a:xfrm>
            <a:off x="407880" y="2708280"/>
            <a:ext cx="25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46856"/>
                </a:solidFill>
                <a:latin typeface="Arial Black"/>
              </a:rPr>
              <a:t>GOBIERNO NACIONAL Y REGIONAL 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Imagen 3" descr=""/>
          <p:cNvPicPr/>
          <p:nvPr/>
        </p:nvPicPr>
        <p:blipFill>
          <a:blip r:embed="rId1"/>
          <a:stretch/>
        </p:blipFill>
        <p:spPr>
          <a:xfrm>
            <a:off x="3444840" y="0"/>
            <a:ext cx="6539040" cy="6772320"/>
          </a:xfrm>
          <a:prstGeom prst="rect">
            <a:avLst/>
          </a:prstGeom>
          <a:ln w="0">
            <a:noFill/>
          </a:ln>
        </p:spPr>
      </p:pic>
      <p:sp>
        <p:nvSpPr>
          <p:cNvPr id="415" name="CuadroTexto 2"/>
          <p:cNvSpPr/>
          <p:nvPr/>
        </p:nvSpPr>
        <p:spPr>
          <a:xfrm>
            <a:off x="407880" y="2708280"/>
            <a:ext cx="25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46856"/>
                </a:solidFill>
                <a:latin typeface="Arial Black"/>
              </a:rPr>
              <a:t>GOBIERNO NACIONAL Y REGIONAL 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Imagen 1" descr=""/>
          <p:cNvPicPr/>
          <p:nvPr/>
        </p:nvPicPr>
        <p:blipFill>
          <a:blip r:embed="rId1"/>
          <a:stretch/>
        </p:blipFill>
        <p:spPr>
          <a:xfrm>
            <a:off x="2927520" y="115920"/>
            <a:ext cx="7345080" cy="6742080"/>
          </a:xfrm>
          <a:prstGeom prst="rect">
            <a:avLst/>
          </a:prstGeom>
          <a:ln w="0">
            <a:noFill/>
          </a:ln>
        </p:spPr>
      </p:pic>
      <p:sp>
        <p:nvSpPr>
          <p:cNvPr id="417" name="CuadroTexto 2"/>
          <p:cNvSpPr/>
          <p:nvPr/>
        </p:nvSpPr>
        <p:spPr>
          <a:xfrm>
            <a:off x="407880" y="2708280"/>
            <a:ext cx="25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46856"/>
                </a:solidFill>
                <a:latin typeface="Arial Black"/>
              </a:rPr>
              <a:t>GOBIERNO NACIONAL Y REGIONAL 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Imagen 1" descr=""/>
          <p:cNvPicPr/>
          <p:nvPr/>
        </p:nvPicPr>
        <p:blipFill>
          <a:blip r:embed="rId1"/>
          <a:stretch/>
        </p:blipFill>
        <p:spPr>
          <a:xfrm>
            <a:off x="3382920" y="44280"/>
            <a:ext cx="6168960" cy="6813720"/>
          </a:xfrm>
          <a:prstGeom prst="rect">
            <a:avLst/>
          </a:prstGeom>
          <a:ln w="0">
            <a:noFill/>
          </a:ln>
        </p:spPr>
      </p:pic>
      <p:sp>
        <p:nvSpPr>
          <p:cNvPr id="419" name="CuadroTexto 2"/>
          <p:cNvSpPr/>
          <p:nvPr/>
        </p:nvSpPr>
        <p:spPr>
          <a:xfrm>
            <a:off x="407880" y="1916280"/>
            <a:ext cx="25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46856"/>
                </a:solidFill>
                <a:latin typeface="Arial Black"/>
              </a:rPr>
              <a:t>GOBIERNOS LOCALES – SBP- IVP 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Imagen 6" descr=""/>
          <p:cNvPicPr/>
          <p:nvPr/>
        </p:nvPicPr>
        <p:blipFill>
          <a:blip r:embed="rId1"/>
          <a:stretch/>
        </p:blipFill>
        <p:spPr>
          <a:xfrm>
            <a:off x="2855880" y="0"/>
            <a:ext cx="748836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CuadroTexto 7"/>
          <p:cNvSpPr/>
          <p:nvPr/>
        </p:nvSpPr>
        <p:spPr>
          <a:xfrm>
            <a:off x="407880" y="1916280"/>
            <a:ext cx="25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46856"/>
                </a:solidFill>
                <a:latin typeface="Arial Black"/>
              </a:rPr>
              <a:t>GOBIERNOS LOCALES – SBP- IVM 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Imagen 1" descr=""/>
          <p:cNvPicPr/>
          <p:nvPr/>
        </p:nvPicPr>
        <p:blipFill>
          <a:blip r:embed="rId1"/>
          <a:stretch/>
        </p:blipFill>
        <p:spPr>
          <a:xfrm>
            <a:off x="3382920" y="0"/>
            <a:ext cx="739296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CuadroTexto 2"/>
          <p:cNvSpPr/>
          <p:nvPr/>
        </p:nvSpPr>
        <p:spPr>
          <a:xfrm>
            <a:off x="407880" y="1916280"/>
            <a:ext cx="25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46856"/>
                </a:solidFill>
                <a:latin typeface="Arial Black"/>
              </a:rPr>
              <a:t>GOBIERNOS LOCALES – SBP- IVP 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Imagen 1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9040" cy="6308640"/>
          </a:xfrm>
          <a:prstGeom prst="rect">
            <a:avLst/>
          </a:prstGeom>
          <a:ln w="0">
            <a:noFill/>
          </a:ln>
        </p:spPr>
      </p:pic>
      <p:sp>
        <p:nvSpPr>
          <p:cNvPr id="425" name="CuadroTexto 2"/>
          <p:cNvSpPr/>
          <p:nvPr/>
        </p:nvSpPr>
        <p:spPr>
          <a:xfrm>
            <a:off x="9336240" y="6381720"/>
            <a:ext cx="13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RETORNAR</a:t>
            </a:r>
            <a:endParaRPr b="1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Imagen 2" descr=""/>
          <p:cNvPicPr/>
          <p:nvPr/>
        </p:nvPicPr>
        <p:blipFill>
          <a:blip r:embed="rId1"/>
          <a:stretch/>
        </p:blipFill>
        <p:spPr>
          <a:xfrm>
            <a:off x="1500120" y="189000"/>
            <a:ext cx="9191520" cy="6119640"/>
          </a:xfrm>
          <a:prstGeom prst="rect">
            <a:avLst/>
          </a:prstGeom>
          <a:ln w="0">
            <a:noFill/>
          </a:ln>
        </p:spPr>
      </p:pic>
      <p:sp>
        <p:nvSpPr>
          <p:cNvPr id="427" name="CuadroTexto 3"/>
          <p:cNvSpPr/>
          <p:nvPr/>
        </p:nvSpPr>
        <p:spPr>
          <a:xfrm>
            <a:off x="9336240" y="6381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RETORNAR</a:t>
            </a:r>
            <a:endParaRPr b="1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magen 1" descr=""/>
          <p:cNvPicPr/>
          <p:nvPr/>
        </p:nvPicPr>
        <p:blipFill>
          <a:blip r:embed="rId1"/>
          <a:stretch/>
        </p:blipFill>
        <p:spPr>
          <a:xfrm>
            <a:off x="1523880" y="0"/>
            <a:ext cx="9226800" cy="6308640"/>
          </a:xfrm>
          <a:prstGeom prst="rect">
            <a:avLst/>
          </a:prstGeom>
          <a:ln w="0">
            <a:noFill/>
          </a:ln>
        </p:spPr>
      </p:pic>
      <p:sp>
        <p:nvSpPr>
          <p:cNvPr id="429" name="CuadroTexto 2"/>
          <p:cNvSpPr/>
          <p:nvPr/>
        </p:nvSpPr>
        <p:spPr>
          <a:xfrm>
            <a:off x="9264600" y="6453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RETORNAR</a:t>
            </a:r>
            <a:endParaRPr b="1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Imagen 1" descr=""/>
          <p:cNvPicPr/>
          <p:nvPr/>
        </p:nvPicPr>
        <p:blipFill>
          <a:blip r:embed="rId1"/>
          <a:stretch/>
        </p:blipFill>
        <p:spPr>
          <a:xfrm>
            <a:off x="1487520" y="836640"/>
            <a:ext cx="9432720" cy="5832360"/>
          </a:xfrm>
          <a:prstGeom prst="rect">
            <a:avLst/>
          </a:prstGeom>
          <a:ln w="12600">
            <a:solidFill>
              <a:srgbClr val="c4220d"/>
            </a:solidFill>
            <a:miter/>
          </a:ln>
        </p:spPr>
      </p:pic>
      <p:sp>
        <p:nvSpPr>
          <p:cNvPr id="431" name="CuadroTexto 2"/>
          <p:cNvSpPr/>
          <p:nvPr/>
        </p:nvSpPr>
        <p:spPr>
          <a:xfrm>
            <a:off x="9551880" y="6524640"/>
            <a:ext cx="172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Arial Black"/>
              </a:rPr>
              <a:t>RETORNAR 5</a:t>
            </a:r>
            <a:endParaRPr b="1" i="1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Flecha abajo 1"/>
          <p:cNvSpPr/>
          <p:nvPr/>
        </p:nvSpPr>
        <p:spPr>
          <a:xfrm rot="10800000">
            <a:off x="4511160" y="3429000"/>
            <a:ext cx="289080" cy="50328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Flecha abajo 4"/>
          <p:cNvSpPr/>
          <p:nvPr/>
        </p:nvSpPr>
        <p:spPr>
          <a:xfrm rot="5248800">
            <a:off x="10233360" y="2326320"/>
            <a:ext cx="287280" cy="49860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ángulo redondeado 1" descr=""/>
          <p:cNvPicPr/>
          <p:nvPr/>
        </p:nvPicPr>
        <p:blipFill>
          <a:blip r:embed="rId1"/>
          <a:stretch/>
        </p:blipFill>
        <p:spPr>
          <a:xfrm>
            <a:off x="2378160" y="682560"/>
            <a:ext cx="7935840" cy="1073160"/>
          </a:xfrm>
          <a:prstGeom prst="rect">
            <a:avLst/>
          </a:prstGeom>
          <a:ln w="0">
            <a:noFill/>
          </a:ln>
        </p:spPr>
      </p:pic>
      <p:grpSp>
        <p:nvGrpSpPr>
          <p:cNvPr id="320" name="CuadroTexto 2"/>
          <p:cNvGrpSpPr/>
          <p:nvPr/>
        </p:nvGrpSpPr>
        <p:grpSpPr>
          <a:xfrm>
            <a:off x="1670040" y="1566720"/>
            <a:ext cx="2468520" cy="1225800"/>
            <a:chOff x="1670040" y="1566720"/>
            <a:chExt cx="2468520" cy="1225800"/>
          </a:xfrm>
        </p:grpSpPr>
        <p:pic>
          <p:nvPicPr>
            <p:cNvPr id="321" name="CuadroTexto 2" descr=""/>
            <p:cNvPicPr/>
            <p:nvPr/>
          </p:nvPicPr>
          <p:blipFill>
            <a:blip r:embed="rId2"/>
            <a:stretch/>
          </p:blipFill>
          <p:spPr>
            <a:xfrm>
              <a:off x="1670040" y="1566720"/>
              <a:ext cx="246852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2119680" y="1579680"/>
              <a:ext cx="197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 LEGAL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23" name="Grupo 1"/>
          <p:cNvGrpSpPr/>
          <p:nvPr/>
        </p:nvGrpSpPr>
        <p:grpSpPr>
          <a:xfrm>
            <a:off x="1127160" y="2852640"/>
            <a:ext cx="10656720" cy="2517840"/>
            <a:chOff x="1127160" y="2852640"/>
            <a:chExt cx="10656720" cy="2517840"/>
          </a:xfrm>
        </p:grpSpPr>
        <p:grpSp>
          <p:nvGrpSpPr>
            <p:cNvPr id="324" name="13 CuadroTexto"/>
            <p:cNvGrpSpPr/>
            <p:nvPr/>
          </p:nvGrpSpPr>
          <p:grpSpPr>
            <a:xfrm>
              <a:off x="4069080" y="3812760"/>
              <a:ext cx="7714800" cy="1557720"/>
              <a:chOff x="4069080" y="3812760"/>
              <a:chExt cx="7714800" cy="1557720"/>
            </a:xfrm>
          </p:grpSpPr>
          <p:pic>
            <p:nvPicPr>
              <p:cNvPr id="325" name="13 CuadroTexto" descr=""/>
              <p:cNvPicPr/>
              <p:nvPr/>
            </p:nvPicPr>
            <p:blipFill>
              <a:blip r:embed="rId3"/>
              <a:stretch/>
            </p:blipFill>
            <p:spPr>
              <a:xfrm>
                <a:off x="4069080" y="3812760"/>
                <a:ext cx="7714800" cy="15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557960" y="3934800"/>
                <a:ext cx="70779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Aprueba la Directiva N° 08-2014-EF/51.01 “Conciliación del Marco Legal y Ejecución del Presupuesto para las Entidades Gubernamentales del Gobierno Nacional y Gobiernos Regionales“</a:t>
                </a:r>
                <a:endParaRPr b="1" i="1" lang="en-US" sz="2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27" name="13 CuadroTexto"/>
            <p:cNvGrpSpPr/>
            <p:nvPr/>
          </p:nvGrpSpPr>
          <p:grpSpPr>
            <a:xfrm>
              <a:off x="4069080" y="2852640"/>
              <a:ext cx="7215480" cy="1347120"/>
              <a:chOff x="4069080" y="2852640"/>
              <a:chExt cx="7215480" cy="1347120"/>
            </a:xfrm>
          </p:grpSpPr>
          <p:pic>
            <p:nvPicPr>
              <p:cNvPr id="328" name="13 CuadroTexto" descr=""/>
              <p:cNvPicPr/>
              <p:nvPr/>
            </p:nvPicPr>
            <p:blipFill>
              <a:blip r:embed="rId4"/>
              <a:stretch/>
            </p:blipFill>
            <p:spPr>
              <a:xfrm>
                <a:off x="4069080" y="2852640"/>
                <a:ext cx="7215480" cy="134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4557960" y="2974680"/>
                <a:ext cx="6579360" cy="10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800" spc="-1" strike="noStrike">
                    <a:solidFill>
                      <a:srgbClr val="82650c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1" i="1" lang="es-MX" sz="21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Ley de Presupuesto Público para el Año Fiscal 2015</a:t>
                </a:r>
                <a:endParaRPr b="1" i="1" lang="en-US" sz="2100" spc="-1" strike="noStrike">
                  <a:solidFill>
                    <a:srgbClr val="000000"/>
                  </a:solidFill>
                  <a:latin typeface="Arial Black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1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  </a:t>
                </a:r>
                <a:endParaRPr b="1" i="1" lang="en-US" sz="21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30" name="Almacenamiento de acceso secuencial 6"/>
            <p:cNvGrpSpPr/>
            <p:nvPr/>
          </p:nvGrpSpPr>
          <p:grpSpPr>
            <a:xfrm>
              <a:off x="1127160" y="2886840"/>
              <a:ext cx="3197520" cy="881640"/>
              <a:chOff x="1127160" y="2886840"/>
              <a:chExt cx="3197520" cy="881640"/>
            </a:xfrm>
          </p:grpSpPr>
          <p:pic>
            <p:nvPicPr>
              <p:cNvPr id="331" name="Almacenamiento de acceso secuencial 6" descr=""/>
              <p:cNvPicPr/>
              <p:nvPr/>
            </p:nvPicPr>
            <p:blipFill>
              <a:blip r:embed="rId5"/>
              <a:stretch/>
            </p:blipFill>
            <p:spPr>
              <a:xfrm>
                <a:off x="1127160" y="2886840"/>
                <a:ext cx="3197520" cy="88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1678680" y="3075120"/>
                <a:ext cx="209268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900" spc="-1" strike="noStrike">
                    <a:solidFill>
                      <a:srgbClr val="000000"/>
                    </a:solidFill>
                    <a:latin typeface="Century Gothic"/>
                  </a:rPr>
                  <a:t>LEY  N° 30281</a:t>
                </a:r>
                <a:endParaRPr b="1" i="1" lang="en-US" sz="19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33" name="Almacenamiento de acceso secuencial 7"/>
            <p:cNvGrpSpPr/>
            <p:nvPr/>
          </p:nvGrpSpPr>
          <p:grpSpPr>
            <a:xfrm>
              <a:off x="1127160" y="4042800"/>
              <a:ext cx="3197520" cy="1018800"/>
              <a:chOff x="1127160" y="4042800"/>
              <a:chExt cx="3197520" cy="1018800"/>
            </a:xfrm>
          </p:grpSpPr>
          <p:pic>
            <p:nvPicPr>
              <p:cNvPr id="334" name="Almacenamiento de acceso secuencial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27160" y="4042800"/>
                <a:ext cx="3197520" cy="101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1678680" y="4251600"/>
                <a:ext cx="209268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900" spc="-1" strike="noStrike">
                    <a:solidFill>
                      <a:srgbClr val="000000"/>
                    </a:solidFill>
                    <a:latin typeface="Century Gothic"/>
                  </a:rPr>
                  <a:t>R.D. N° 014-2014-EF/51.01</a:t>
                </a:r>
                <a:endParaRPr b="1" i="1" lang="en-US" sz="19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Imagen 1" descr=""/>
          <p:cNvPicPr/>
          <p:nvPr/>
        </p:nvPicPr>
        <p:blipFill>
          <a:blip r:embed="rId1"/>
          <a:stretch/>
        </p:blipFill>
        <p:spPr>
          <a:xfrm>
            <a:off x="1055520" y="765000"/>
            <a:ext cx="9720360" cy="5759640"/>
          </a:xfrm>
          <a:prstGeom prst="rect">
            <a:avLst/>
          </a:prstGeom>
          <a:ln w="12600">
            <a:solidFill>
              <a:srgbClr val="c4220d"/>
            </a:solidFill>
            <a:miter/>
          </a:ln>
        </p:spPr>
      </p:pic>
      <p:sp>
        <p:nvSpPr>
          <p:cNvPr id="435" name="CuadroTexto 2"/>
          <p:cNvSpPr/>
          <p:nvPr/>
        </p:nvSpPr>
        <p:spPr>
          <a:xfrm>
            <a:off x="9551880" y="6524640"/>
            <a:ext cx="172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Arial Black"/>
              </a:rPr>
              <a:t>RETORNAR 5</a:t>
            </a:r>
            <a:endParaRPr b="1" i="1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Flecha abajo 1"/>
          <p:cNvSpPr/>
          <p:nvPr/>
        </p:nvSpPr>
        <p:spPr>
          <a:xfrm rot="10800000">
            <a:off x="4800240" y="3357360"/>
            <a:ext cx="290520" cy="48564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Flecha abajo 4"/>
          <p:cNvSpPr/>
          <p:nvPr/>
        </p:nvSpPr>
        <p:spPr>
          <a:xfrm rot="5400000">
            <a:off x="10082160" y="2250720"/>
            <a:ext cx="290520" cy="487440"/>
          </a:xfrm>
          <a:prstGeom prst="downArrow">
            <a:avLst>
              <a:gd name="adj1" fmla="val 50000"/>
              <a:gd name="adj2" fmla="val 50218"/>
            </a:avLst>
          </a:pr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Imagen 1" descr=""/>
          <p:cNvPicPr/>
          <p:nvPr/>
        </p:nvPicPr>
        <p:blipFill>
          <a:blip r:embed="rId1"/>
          <a:stretch/>
        </p:blipFill>
        <p:spPr>
          <a:xfrm>
            <a:off x="766800" y="333360"/>
            <a:ext cx="10729800" cy="619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9" name="CuadroTexto 2"/>
          <p:cNvSpPr/>
          <p:nvPr/>
        </p:nvSpPr>
        <p:spPr>
          <a:xfrm>
            <a:off x="9551880" y="6524640"/>
            <a:ext cx="172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Arial Black"/>
              </a:rPr>
              <a:t>RETORNAR 5</a:t>
            </a:r>
            <a:endParaRPr b="1" i="1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CuadroTexto 2"/>
          <p:cNvSpPr/>
          <p:nvPr/>
        </p:nvSpPr>
        <p:spPr>
          <a:xfrm>
            <a:off x="6888240" y="2492280"/>
            <a:ext cx="302400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Rectángulo 3"/>
          <p:cNvSpPr/>
          <p:nvPr/>
        </p:nvSpPr>
        <p:spPr>
          <a:xfrm>
            <a:off x="8642520" y="3068640"/>
            <a:ext cx="45720" cy="46080"/>
          </a:xfrm>
          <a:prstGeom prst="rect">
            <a:avLst/>
          </a:pr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Flecha abajo 4"/>
          <p:cNvSpPr/>
          <p:nvPr/>
        </p:nvSpPr>
        <p:spPr>
          <a:xfrm rot="5571600">
            <a:off x="11554920" y="2220840"/>
            <a:ext cx="43308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magen 1" descr=""/>
          <p:cNvPicPr/>
          <p:nvPr/>
        </p:nvPicPr>
        <p:blipFill>
          <a:blip r:embed="rId1"/>
          <a:stretch/>
        </p:blipFill>
        <p:spPr>
          <a:xfrm>
            <a:off x="839880" y="404640"/>
            <a:ext cx="10440720" cy="6120000"/>
          </a:xfrm>
          <a:prstGeom prst="rect">
            <a:avLst/>
          </a:prstGeom>
          <a:ln w="0">
            <a:noFill/>
          </a:ln>
        </p:spPr>
      </p:pic>
      <p:sp>
        <p:nvSpPr>
          <p:cNvPr id="444" name="Flecha abajo 1"/>
          <p:cNvSpPr/>
          <p:nvPr/>
        </p:nvSpPr>
        <p:spPr>
          <a:xfrm rot="5400000">
            <a:off x="11388240" y="2998800"/>
            <a:ext cx="360360" cy="5763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Flecha abajo 3"/>
          <p:cNvSpPr/>
          <p:nvPr/>
        </p:nvSpPr>
        <p:spPr>
          <a:xfrm rot="5400000">
            <a:off x="11390040" y="3465360"/>
            <a:ext cx="360360" cy="5763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Imagen 1" descr=""/>
          <p:cNvPicPr/>
          <p:nvPr/>
        </p:nvPicPr>
        <p:blipFill>
          <a:blip r:embed="rId1"/>
          <a:stretch/>
        </p:blipFill>
        <p:spPr>
          <a:xfrm>
            <a:off x="2978280" y="115920"/>
            <a:ext cx="6718320" cy="6373800"/>
          </a:xfrm>
          <a:prstGeom prst="rect">
            <a:avLst/>
          </a:prstGeom>
          <a:ln w="0">
            <a:noFill/>
          </a:ln>
        </p:spPr>
      </p:pic>
      <p:sp>
        <p:nvSpPr>
          <p:cNvPr id="447" name="Rectángulo 2"/>
          <p:cNvSpPr/>
          <p:nvPr/>
        </p:nvSpPr>
        <p:spPr>
          <a:xfrm>
            <a:off x="5383080" y="31989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GRACIAS</a:t>
            </a: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Rectángulo 3"/>
          <p:cNvSpPr/>
          <p:nvPr/>
        </p:nvSpPr>
        <p:spPr>
          <a:xfrm>
            <a:off x="5519880" y="5373720"/>
            <a:ext cx="31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000000"/>
                </a:solidFill>
                <a:latin typeface="Arial Black"/>
              </a:rPr>
              <a:t>Isabel Canorio Salcedo </a:t>
            </a: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000000"/>
                </a:solidFill>
                <a:latin typeface="Arial Black"/>
              </a:rPr>
              <a:t>mail: </a:t>
            </a:r>
            <a:r>
              <a:rPr b="1" i="1" lang="es-PE" sz="1600" spc="-1" strike="noStrike">
                <a:solidFill>
                  <a:srgbClr val="00b0f0"/>
                </a:solidFill>
                <a:latin typeface="Arial Black"/>
              </a:rPr>
              <a:t>icanorio@mef.gob.pe</a:t>
            </a: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 Black"/>
              </a:rPr>
              <a:t>Teléfono: 311 5930 - 3324</a:t>
            </a: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upo 1"/>
          <p:cNvGrpSpPr/>
          <p:nvPr/>
        </p:nvGrpSpPr>
        <p:grpSpPr>
          <a:xfrm>
            <a:off x="4519440" y="1758960"/>
            <a:ext cx="6616800" cy="4115520"/>
            <a:chOff x="4519440" y="1758960"/>
            <a:chExt cx="6616800" cy="4115520"/>
          </a:xfrm>
        </p:grpSpPr>
        <p:sp>
          <p:nvSpPr>
            <p:cNvPr id="337" name="CuadroTexto 5"/>
            <p:cNvSpPr/>
            <p:nvPr/>
          </p:nvSpPr>
          <p:spPr>
            <a:xfrm>
              <a:off x="4560480" y="1758960"/>
              <a:ext cx="6575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Establecer los lineamientos y procedimientos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8" name="CuadroTexto 20"/>
            <p:cNvSpPr/>
            <p:nvPr/>
          </p:nvSpPr>
          <p:spPr>
            <a:xfrm>
              <a:off x="4560480" y="2638440"/>
              <a:ext cx="6575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Gobierno Nacional, Regional y  Local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9" name="CuadroTexto 22"/>
            <p:cNvSpPr/>
            <p:nvPr/>
          </p:nvSpPr>
          <p:spPr>
            <a:xfrm>
              <a:off x="4586040" y="4510080"/>
              <a:ext cx="644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ANUAL:</a:t>
              </a:r>
              <a:r>
                <a:rPr b="1" i="1" lang="es-MX" sz="22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 cronograma                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0" name="CuadroTexto 33"/>
            <p:cNvSpPr/>
            <p:nvPr/>
          </p:nvSpPr>
          <p:spPr>
            <a:xfrm>
              <a:off x="4519440" y="5445360"/>
              <a:ext cx="6575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No haber conciliado en los plazos establecidos   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1" name="CuadroTexto 35"/>
            <p:cNvSpPr/>
            <p:nvPr/>
          </p:nvSpPr>
          <p:spPr>
            <a:xfrm>
              <a:off x="4560480" y="3573360"/>
              <a:ext cx="6575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Módulo Contable – vía WEB , SICON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42" name="Grupo 1"/>
          <p:cNvGrpSpPr/>
          <p:nvPr/>
        </p:nvGrpSpPr>
        <p:grpSpPr>
          <a:xfrm>
            <a:off x="1055520" y="1544760"/>
            <a:ext cx="2767320" cy="4546440"/>
            <a:chOff x="1055520" y="1544760"/>
            <a:chExt cx="2767320" cy="4546440"/>
          </a:xfrm>
        </p:grpSpPr>
        <p:grpSp>
          <p:nvGrpSpPr>
            <p:cNvPr id="343" name="Almacenamiento de acceso secuencial 23"/>
            <p:cNvGrpSpPr/>
            <p:nvPr/>
          </p:nvGrpSpPr>
          <p:grpSpPr>
            <a:xfrm>
              <a:off x="1172880" y="1544760"/>
              <a:ext cx="2649960" cy="948600"/>
              <a:chOff x="1172880" y="1544760"/>
              <a:chExt cx="2649960" cy="948600"/>
            </a:xfrm>
          </p:grpSpPr>
          <p:pic>
            <p:nvPicPr>
              <p:cNvPr id="344" name="Almacenamiento de acceso secuencial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2880" y="1544760"/>
                <a:ext cx="2649960" cy="94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1638720" y="1756080"/>
                <a:ext cx="1716840" cy="5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900" spc="-1" strike="noStrike">
                    <a:solidFill>
                      <a:srgbClr val="000000"/>
                    </a:solidFill>
                    <a:latin typeface="Century Gothic"/>
                  </a:rPr>
                  <a:t>OBJETIVO</a:t>
                </a:r>
                <a:endParaRPr b="1" i="1" lang="en-US" sz="19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46" name="Almacenamiento de acceso secuencial 25"/>
            <p:cNvGrpSpPr/>
            <p:nvPr/>
          </p:nvGrpSpPr>
          <p:grpSpPr>
            <a:xfrm>
              <a:off x="1077840" y="3349440"/>
              <a:ext cx="2745000" cy="1006200"/>
              <a:chOff x="1077840" y="3349440"/>
              <a:chExt cx="2745000" cy="1006200"/>
            </a:xfrm>
          </p:grpSpPr>
          <p:pic>
            <p:nvPicPr>
              <p:cNvPr id="347" name="Almacenamiento de acceso secuencial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1077840" y="3349440"/>
                <a:ext cx="2745000" cy="10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1558440" y="3560760"/>
                <a:ext cx="1783440" cy="50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900" spc="-1" strike="noStrike">
                    <a:solidFill>
                      <a:srgbClr val="000000"/>
                    </a:solidFill>
                    <a:latin typeface="Century Gothic"/>
                  </a:rPr>
                  <a:t>MEDIO INFORMATICO</a:t>
                </a:r>
                <a:endParaRPr b="1" i="1" lang="en-US" sz="19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49" name="Almacenamiento de acceso secuencial 28"/>
            <p:cNvGrpSpPr/>
            <p:nvPr/>
          </p:nvGrpSpPr>
          <p:grpSpPr>
            <a:xfrm>
              <a:off x="1055520" y="2441160"/>
              <a:ext cx="2767320" cy="948600"/>
              <a:chOff x="1055520" y="2441160"/>
              <a:chExt cx="2767320" cy="948600"/>
            </a:xfrm>
          </p:grpSpPr>
          <p:pic>
            <p:nvPicPr>
              <p:cNvPr id="350" name="Almacenamiento de acceso secuencial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1055520" y="2441160"/>
                <a:ext cx="2767320" cy="94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1540800" y="2648880"/>
                <a:ext cx="1798200" cy="5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900" spc="-1" strike="noStrike">
                    <a:solidFill>
                      <a:srgbClr val="000000"/>
                    </a:solidFill>
                    <a:latin typeface="Century Gothic"/>
                  </a:rPr>
                  <a:t>ALCANCE</a:t>
                </a:r>
                <a:endParaRPr b="1" i="1" lang="en-US" sz="19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52" name="Almacenamiento de acceso secuencial 32"/>
            <p:cNvGrpSpPr/>
            <p:nvPr/>
          </p:nvGrpSpPr>
          <p:grpSpPr>
            <a:xfrm>
              <a:off x="1077840" y="4246200"/>
              <a:ext cx="2745000" cy="948600"/>
              <a:chOff x="1077840" y="4246200"/>
              <a:chExt cx="2745000" cy="948600"/>
            </a:xfrm>
          </p:grpSpPr>
          <p:pic>
            <p:nvPicPr>
              <p:cNvPr id="353" name="Almacenamiento de acceso secuencial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7840" y="4246200"/>
                <a:ext cx="2745000" cy="94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1558440" y="4457160"/>
                <a:ext cx="1783440" cy="5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900" spc="-1" strike="noStrike">
                    <a:solidFill>
                      <a:srgbClr val="000000"/>
                    </a:solidFill>
                    <a:latin typeface="Century Gothic"/>
                  </a:rPr>
                  <a:t>PLAZOS</a:t>
                </a:r>
                <a:endParaRPr b="1" i="1" lang="en-US" sz="19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55" name="Almacenamiento de acceso secuencial 36"/>
            <p:cNvGrpSpPr/>
            <p:nvPr/>
          </p:nvGrpSpPr>
          <p:grpSpPr>
            <a:xfrm>
              <a:off x="1077840" y="5142600"/>
              <a:ext cx="2745000" cy="948600"/>
              <a:chOff x="1077840" y="5142600"/>
              <a:chExt cx="2745000" cy="948600"/>
            </a:xfrm>
          </p:grpSpPr>
          <p:pic>
            <p:nvPicPr>
              <p:cNvPr id="356" name="Almacenamiento de acceso secuencial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7840" y="5142600"/>
                <a:ext cx="2745000" cy="94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1558440" y="5353200"/>
                <a:ext cx="1783440" cy="5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900" spc="-1" strike="noStrike">
                    <a:solidFill>
                      <a:srgbClr val="000000"/>
                    </a:solidFill>
                    <a:latin typeface="Century Gothic"/>
                  </a:rPr>
                  <a:t>OMISOS</a:t>
                </a:r>
                <a:endParaRPr b="1" i="1" lang="en-US" sz="19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pic>
        <p:nvPicPr>
          <p:cNvPr id="358" name="Rectángulo redondeado 38" descr=""/>
          <p:cNvPicPr/>
          <p:nvPr/>
        </p:nvPicPr>
        <p:blipFill>
          <a:blip r:embed="rId6"/>
          <a:stretch/>
        </p:blipFill>
        <p:spPr>
          <a:xfrm>
            <a:off x="2305080" y="463680"/>
            <a:ext cx="79358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CuadroTexto 12"/>
          <p:cNvSpPr/>
          <p:nvPr/>
        </p:nvSpPr>
        <p:spPr>
          <a:xfrm>
            <a:off x="2855880" y="1341360"/>
            <a:ext cx="878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Presentación de los dispositivos legales a la DGCP, que sustentan el Presupuesto Institucional Modificado – PIM de la  Hoja de trabajo de Resoluciones de ingresos y gastos.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"/>
                <a:ea typeface="Arial"/>
              </a:rPr>
              <a:t>Presentar 03 días antes de la fecha  del cronograma: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P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PIM y Ejecución del Ingresos RO. (captadora)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P-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PIM y Ejecución del Ingreso ROOC. (captadora)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P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PIM por  Grupo Genérico de gasto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P-4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PIM por Genérica del Ingreso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P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 Ejecución del Presupuesto por Grupo Genérico del Gasto 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P-6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Ejecución del Presupuesto por Genérica del  Ingresos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nviar Oficio de acreditación de los funcionarios que van a suscribir el Acta de Conciliación. 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Verificar que la integración incluya la totalidad de Unidades Ejecutoras.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0" name="Rectángulo redondeado 7" descr=""/>
          <p:cNvPicPr/>
          <p:nvPr/>
        </p:nvPicPr>
        <p:blipFill>
          <a:blip r:embed="rId1"/>
          <a:stretch/>
        </p:blipFill>
        <p:spPr>
          <a:xfrm>
            <a:off x="3024360" y="414360"/>
            <a:ext cx="8667720" cy="1066680"/>
          </a:xfrm>
          <a:prstGeom prst="rect">
            <a:avLst/>
          </a:prstGeom>
          <a:ln w="0">
            <a:noFill/>
          </a:ln>
        </p:spPr>
      </p:pic>
      <p:pic>
        <p:nvPicPr>
          <p:cNvPr id="361" name="Circular 1" descr=""/>
          <p:cNvPicPr/>
          <p:nvPr/>
        </p:nvPicPr>
        <p:blipFill>
          <a:blip r:embed="rId2"/>
          <a:stretch/>
        </p:blipFill>
        <p:spPr>
          <a:xfrm>
            <a:off x="182520" y="2322360"/>
            <a:ext cx="2511360" cy="40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617"/>
          <p:cNvSpPr/>
          <p:nvPr/>
        </p:nvSpPr>
        <p:spPr>
          <a:xfrm>
            <a:off x="7039080" y="80964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0a6a94"/>
                </a:solidFill>
                <a:uFillTx/>
                <a:latin typeface="Times New Roman"/>
                <a:ea typeface="Arial"/>
              </a:rPr>
              <a:t>SECTORISTAS DGCP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Conector recto 31"/>
          <p:cNvSpPr/>
          <p:nvPr/>
        </p:nvSpPr>
        <p:spPr>
          <a:xfrm>
            <a:off x="6095880" y="1195560"/>
            <a:ext cx="41400" cy="3976560"/>
          </a:xfrm>
          <a:prstGeom prst="line">
            <a:avLst/>
          </a:prstGeom>
          <a:ln w="38160">
            <a:solidFill>
              <a:srgbClr val="0a6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Text Box 617"/>
          <p:cNvSpPr/>
          <p:nvPr/>
        </p:nvSpPr>
        <p:spPr>
          <a:xfrm>
            <a:off x="2855880" y="853920"/>
            <a:ext cx="15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0a6a94"/>
                </a:solidFill>
                <a:uFillTx/>
                <a:latin typeface="Times New Roman"/>
                <a:ea typeface="Arial"/>
              </a:rPr>
              <a:t>  </a:t>
            </a:r>
            <a:r>
              <a:rPr b="1" i="1" lang="es-ES_tradnl" sz="1800" spc="-1" strike="noStrike" u="sng">
                <a:solidFill>
                  <a:srgbClr val="0a6a94"/>
                </a:solidFill>
                <a:uFillTx/>
                <a:latin typeface="Times New Roman"/>
                <a:ea typeface="Arial"/>
              </a:rPr>
              <a:t>ENTIDAD 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78 Multidocumento"/>
          <p:cNvSpPr/>
          <p:nvPr/>
        </p:nvSpPr>
        <p:spPr>
          <a:xfrm>
            <a:off x="2944800" y="6021360"/>
            <a:ext cx="1738440" cy="792360"/>
          </a:xfrm>
          <a:prstGeom prst="flowChartMultidocument">
            <a:avLst/>
          </a:prstGeom>
          <a:solidFill>
            <a:srgbClr val="00b050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ACTA  DE  CONCILIACION</a:t>
            </a:r>
            <a:endParaRPr b="1" i="1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78 Multidocumento"/>
          <p:cNvSpPr/>
          <p:nvPr/>
        </p:nvSpPr>
        <p:spPr>
          <a:xfrm>
            <a:off x="6675480" y="5925960"/>
            <a:ext cx="1739880" cy="816120"/>
          </a:xfrm>
          <a:prstGeom prst="flowChartMultidocument">
            <a:avLst/>
          </a:prstGeom>
          <a:solidFill>
            <a:srgbClr val="00b050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ACTA  DE  CONCILIACION</a:t>
            </a:r>
            <a:endParaRPr b="1" i="1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367" name="Conector recto de flecha 46"/>
          <p:cNvCxnSpPr/>
          <p:nvPr/>
        </p:nvCxnSpPr>
        <p:spPr>
          <a:xfrm>
            <a:off x="7946640" y="5654160"/>
            <a:ext cx="10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Conector angular 48"/>
          <p:cNvCxnSpPr>
            <a:endCxn id="365" idx="0"/>
          </p:cNvCxnSpPr>
          <p:nvPr/>
        </p:nvCxnSpPr>
        <p:spPr>
          <a:xfrm flipV="1" rot="10800000">
            <a:off x="3933000" y="5691240"/>
            <a:ext cx="4014000" cy="3290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369" name="Text Box 617"/>
          <p:cNvSpPr/>
          <p:nvPr/>
        </p:nvSpPr>
        <p:spPr>
          <a:xfrm>
            <a:off x="3887640" y="5353200"/>
            <a:ext cx="43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IMPRESIÓN DEL  ACTA  DE CONCILIACIÓN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Text Box 617"/>
          <p:cNvSpPr/>
          <p:nvPr/>
        </p:nvSpPr>
        <p:spPr>
          <a:xfrm>
            <a:off x="5522760" y="5929200"/>
            <a:ext cx="4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a6a94"/>
                </a:solidFill>
                <a:latin typeface="Times New Roman"/>
                <a:ea typeface="Arial"/>
              </a:rPr>
              <a:t>13)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upo 12"/>
          <p:cNvGrpSpPr/>
          <p:nvPr/>
        </p:nvGrpSpPr>
        <p:grpSpPr>
          <a:xfrm>
            <a:off x="6821640" y="1463760"/>
            <a:ext cx="3111480" cy="463320"/>
            <a:chOff x="6821640" y="1463760"/>
            <a:chExt cx="3111480" cy="463320"/>
          </a:xfrm>
        </p:grpSpPr>
        <p:sp>
          <p:nvSpPr>
            <p:cNvPr id="372" name="Text Box 617"/>
            <p:cNvSpPr/>
            <p:nvPr/>
          </p:nvSpPr>
          <p:spPr>
            <a:xfrm>
              <a:off x="6821640" y="1477800"/>
              <a:ext cx="46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a6a94"/>
                  </a:solidFill>
                  <a:latin typeface="Times New Roman"/>
                  <a:ea typeface="Arial"/>
                </a:rPr>
                <a:t>5)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3" name="Rectángulo redondeado 59"/>
            <p:cNvSpPr/>
            <p:nvPr/>
          </p:nvSpPr>
          <p:spPr>
            <a:xfrm>
              <a:off x="7257960" y="1463760"/>
              <a:ext cx="2675160" cy="46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92"/>
                </a:gs>
                <a:gs pos="100000">
                  <a:srgbClr val="fffbde"/>
                </a:gs>
              </a:gsLst>
              <a:lin ang="5400000"/>
            </a:gra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INICIO DE  CONCILIACIÓN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74" name="Grupo 13"/>
          <p:cNvGrpSpPr/>
          <p:nvPr/>
        </p:nvGrpSpPr>
        <p:grpSpPr>
          <a:xfrm>
            <a:off x="6808680" y="2089080"/>
            <a:ext cx="3119400" cy="463680"/>
            <a:chOff x="6808680" y="2089080"/>
            <a:chExt cx="3119400" cy="463680"/>
          </a:xfrm>
        </p:grpSpPr>
        <p:sp>
          <p:nvSpPr>
            <p:cNvPr id="375" name="Text Box 617"/>
            <p:cNvSpPr/>
            <p:nvPr/>
          </p:nvSpPr>
          <p:spPr>
            <a:xfrm>
              <a:off x="6808680" y="2112840"/>
              <a:ext cx="46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a6a94"/>
                  </a:solidFill>
                  <a:latin typeface="Times New Roman"/>
                  <a:ea typeface="Arial"/>
                </a:rPr>
                <a:t>6)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6" name="Rectángulo redondeado 60"/>
            <p:cNvSpPr/>
            <p:nvPr/>
          </p:nvSpPr>
          <p:spPr>
            <a:xfrm>
              <a:off x="7268760" y="2089080"/>
              <a:ext cx="2659320" cy="463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92"/>
                </a:gs>
                <a:gs pos="100000">
                  <a:srgbClr val="fffbde"/>
                </a:gs>
              </a:gsLst>
              <a:lin ang="5400000"/>
            </a:gra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HABILITAR  CONCILIACIÓN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77" name="Grupo 14"/>
          <p:cNvGrpSpPr/>
          <p:nvPr/>
        </p:nvGrpSpPr>
        <p:grpSpPr>
          <a:xfrm>
            <a:off x="6848640" y="2664000"/>
            <a:ext cx="3079440" cy="465120"/>
            <a:chOff x="6848640" y="2664000"/>
            <a:chExt cx="3079440" cy="465120"/>
          </a:xfrm>
        </p:grpSpPr>
        <p:sp>
          <p:nvSpPr>
            <p:cNvPr id="378" name="Text Box 617"/>
            <p:cNvSpPr/>
            <p:nvPr/>
          </p:nvSpPr>
          <p:spPr>
            <a:xfrm>
              <a:off x="6848640" y="2743200"/>
              <a:ext cx="46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a6a94"/>
                  </a:solidFill>
                  <a:latin typeface="Times New Roman"/>
                  <a:ea typeface="Arial"/>
                </a:rPr>
                <a:t>8)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9" name="Rectángulo redondeado 61"/>
            <p:cNvSpPr/>
            <p:nvPr/>
          </p:nvSpPr>
          <p:spPr>
            <a:xfrm>
              <a:off x="7283520" y="2664000"/>
              <a:ext cx="2644560" cy="46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92"/>
                </a:gs>
                <a:gs pos="100000">
                  <a:srgbClr val="fffbde"/>
                </a:gs>
              </a:gsLst>
              <a:lin ang="5400000"/>
            </a:gra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V° B°  FUNCIONARIOS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80" name="Grupo 15"/>
          <p:cNvGrpSpPr/>
          <p:nvPr/>
        </p:nvGrpSpPr>
        <p:grpSpPr>
          <a:xfrm>
            <a:off x="6808680" y="3265560"/>
            <a:ext cx="3119400" cy="463320"/>
            <a:chOff x="6808680" y="3265560"/>
            <a:chExt cx="3119400" cy="463320"/>
          </a:xfrm>
        </p:grpSpPr>
        <p:sp>
          <p:nvSpPr>
            <p:cNvPr id="381" name="Text Box 617"/>
            <p:cNvSpPr/>
            <p:nvPr/>
          </p:nvSpPr>
          <p:spPr>
            <a:xfrm>
              <a:off x="6808680" y="3336840"/>
              <a:ext cx="46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a6a94"/>
                  </a:solidFill>
                  <a:latin typeface="Times New Roman"/>
                  <a:ea typeface="Arial"/>
                </a:rPr>
                <a:t>9)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2" name="Rectángulo redondeado 62"/>
            <p:cNvSpPr/>
            <p:nvPr/>
          </p:nvSpPr>
          <p:spPr>
            <a:xfrm>
              <a:off x="7281720" y="3265560"/>
              <a:ext cx="2646360" cy="46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92"/>
                </a:gs>
                <a:gs pos="100000">
                  <a:srgbClr val="fffbde"/>
                </a:gs>
              </a:gsLst>
              <a:lin ang="5400000"/>
            </a:gra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GENERAR  ACTA  DE CONCILIACIÓN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83" name="Grupo 16"/>
          <p:cNvGrpSpPr/>
          <p:nvPr/>
        </p:nvGrpSpPr>
        <p:grpSpPr>
          <a:xfrm>
            <a:off x="6753240" y="3846600"/>
            <a:ext cx="3174840" cy="490320"/>
            <a:chOff x="6753240" y="3846600"/>
            <a:chExt cx="3174840" cy="490320"/>
          </a:xfrm>
        </p:grpSpPr>
        <p:sp>
          <p:nvSpPr>
            <p:cNvPr id="384" name="Text Box 617"/>
            <p:cNvSpPr/>
            <p:nvPr/>
          </p:nvSpPr>
          <p:spPr>
            <a:xfrm>
              <a:off x="6753240" y="3890880"/>
              <a:ext cx="46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a6a94"/>
                  </a:solidFill>
                  <a:latin typeface="Times New Roman"/>
                  <a:ea typeface="Arial"/>
                </a:rPr>
                <a:t>11)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5" name="Rectángulo redondeado 63"/>
            <p:cNvSpPr/>
            <p:nvPr/>
          </p:nvSpPr>
          <p:spPr>
            <a:xfrm>
              <a:off x="7281720" y="3846600"/>
              <a:ext cx="2646360" cy="49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92"/>
                </a:gs>
                <a:gs pos="100000">
                  <a:srgbClr val="fffbde"/>
                </a:gs>
              </a:gsLst>
              <a:lin ang="5400000"/>
            </a:gra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CONFORMIDAD  VIRTUAL  ACTA DE CONCILIACIÓN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86" name="Grupo 17"/>
          <p:cNvGrpSpPr/>
          <p:nvPr/>
        </p:nvGrpSpPr>
        <p:grpSpPr>
          <a:xfrm>
            <a:off x="6740640" y="4502160"/>
            <a:ext cx="3187440" cy="463680"/>
            <a:chOff x="6740640" y="4502160"/>
            <a:chExt cx="3187440" cy="463680"/>
          </a:xfrm>
        </p:grpSpPr>
        <p:sp>
          <p:nvSpPr>
            <p:cNvPr id="387" name="Text Box 617"/>
            <p:cNvSpPr/>
            <p:nvPr/>
          </p:nvSpPr>
          <p:spPr>
            <a:xfrm>
              <a:off x="6740640" y="4551120"/>
              <a:ext cx="46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a6a94"/>
                  </a:solidFill>
                  <a:latin typeface="Times New Roman"/>
                  <a:ea typeface="Arial"/>
                </a:rPr>
                <a:t>12)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8" name="Rectángulo redondeado 64"/>
            <p:cNvSpPr/>
            <p:nvPr/>
          </p:nvSpPr>
          <p:spPr>
            <a:xfrm>
              <a:off x="7281720" y="4502160"/>
              <a:ext cx="2646360" cy="463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92"/>
                </a:gs>
                <a:gs pos="100000">
                  <a:srgbClr val="fffbde"/>
                </a:gs>
              </a:gsLst>
              <a:lin ang="5400000"/>
            </a:gra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CIERRE  DE LA  CONCILIACIÓN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89" name="Grupo 10"/>
          <p:cNvGrpSpPr/>
          <p:nvPr/>
        </p:nvGrpSpPr>
        <p:grpSpPr>
          <a:xfrm>
            <a:off x="1944720" y="1268280"/>
            <a:ext cx="3541680" cy="675000"/>
            <a:chOff x="1944720" y="1268280"/>
            <a:chExt cx="3541680" cy="675000"/>
          </a:xfrm>
        </p:grpSpPr>
        <p:sp>
          <p:nvSpPr>
            <p:cNvPr id="390" name="Rectángulo redondeado 1"/>
            <p:cNvSpPr/>
            <p:nvPr/>
          </p:nvSpPr>
          <p:spPr>
            <a:xfrm>
              <a:off x="2346120" y="1268280"/>
              <a:ext cx="3140280" cy="67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92"/>
                </a:gs>
                <a:gs pos="100000">
                  <a:srgbClr val="fffbde"/>
                </a:gs>
              </a:gsLst>
              <a:lin ang="5400000"/>
            </a:gra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CIERRE  </a:t>
              </a:r>
              <a:r>
                <a:rPr b="1" i="1" lang="es-ES_tradnl" sz="1400" spc="-1" strike="noStrike" u="sng">
                  <a:solidFill>
                    <a:srgbClr val="ea5a0c"/>
                  </a:solidFill>
                  <a:uFillTx/>
                  <a:latin typeface="Times New Roman"/>
                  <a:hlinkClick r:id="rId1" action="ppaction://hlinksldjump"/>
                </a:rPr>
                <a:t>MARCO </a:t>
              </a: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LEGAL DE PRESUPUESTO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91" name="Text Box 617"/>
            <p:cNvSpPr/>
            <p:nvPr/>
          </p:nvSpPr>
          <p:spPr>
            <a:xfrm>
              <a:off x="1944720" y="1347480"/>
              <a:ext cx="4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a6a94"/>
                  </a:solidFill>
                  <a:latin typeface="Times New Roman"/>
                  <a:ea typeface="Arial"/>
                </a:rPr>
                <a:t>1)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392" name="Grupo 7" descr=""/>
          <p:cNvPicPr/>
          <p:nvPr/>
        </p:nvPicPr>
        <p:blipFill>
          <a:blip r:embed="rId2"/>
          <a:stretch/>
        </p:blipFill>
        <p:spPr>
          <a:xfrm>
            <a:off x="1847880" y="3352680"/>
            <a:ext cx="3645000" cy="658800"/>
          </a:xfrm>
          <a:prstGeom prst="rect">
            <a:avLst/>
          </a:prstGeom>
          <a:ln w="0">
            <a:noFill/>
          </a:ln>
        </p:spPr>
      </p:pic>
      <p:pic>
        <p:nvPicPr>
          <p:cNvPr id="393" name="Grupo 9" descr=""/>
          <p:cNvPicPr/>
          <p:nvPr/>
        </p:nvPicPr>
        <p:blipFill>
          <a:blip r:embed="rId3"/>
          <a:stretch/>
        </p:blipFill>
        <p:spPr>
          <a:xfrm>
            <a:off x="1852560" y="2054160"/>
            <a:ext cx="3640320" cy="622440"/>
          </a:xfrm>
          <a:prstGeom prst="rect">
            <a:avLst/>
          </a:prstGeom>
          <a:ln w="0">
            <a:noFill/>
          </a:ln>
        </p:spPr>
      </p:pic>
      <p:pic>
        <p:nvPicPr>
          <p:cNvPr id="394" name="Grupo 6" descr=""/>
          <p:cNvPicPr/>
          <p:nvPr/>
        </p:nvPicPr>
        <p:blipFill>
          <a:blip r:embed="rId4"/>
          <a:stretch/>
        </p:blipFill>
        <p:spPr>
          <a:xfrm>
            <a:off x="1835280" y="4718160"/>
            <a:ext cx="3657600" cy="622080"/>
          </a:xfrm>
          <a:prstGeom prst="rect">
            <a:avLst/>
          </a:prstGeom>
          <a:ln w="0">
            <a:noFill/>
          </a:ln>
        </p:spPr>
      </p:pic>
      <p:grpSp>
        <p:nvGrpSpPr>
          <p:cNvPr id="395" name="Grupo 8"/>
          <p:cNvGrpSpPr/>
          <p:nvPr/>
        </p:nvGrpSpPr>
        <p:grpSpPr>
          <a:xfrm>
            <a:off x="1879560" y="2708280"/>
            <a:ext cx="3606840" cy="588960"/>
            <a:chOff x="1879560" y="2708280"/>
            <a:chExt cx="3606840" cy="588960"/>
          </a:xfrm>
        </p:grpSpPr>
        <p:sp>
          <p:nvSpPr>
            <p:cNvPr id="396" name="Rectángulo redondeado 33"/>
            <p:cNvSpPr/>
            <p:nvPr/>
          </p:nvSpPr>
          <p:spPr>
            <a:xfrm>
              <a:off x="2338200" y="2708280"/>
              <a:ext cx="3148200" cy="58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792"/>
                </a:gs>
                <a:gs pos="100000">
                  <a:srgbClr val="fffbde"/>
                </a:gs>
              </a:gsLst>
              <a:lin ang="5400000"/>
            </a:gra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VERIFICAR PROCESOS </a:t>
              </a:r>
              <a:r>
                <a:rPr b="1" i="1" lang="es-ES_tradnl" sz="1400" spc="-1" strike="noStrike" u="sng">
                  <a:solidFill>
                    <a:srgbClr val="ea5a0c"/>
                  </a:solidFill>
                  <a:uFillTx/>
                  <a:latin typeface="Times New Roman"/>
                  <a:hlinkClick r:id="rId5" action="ppaction://hlinksldjump"/>
                </a:rPr>
                <a:t>MÓDULO</a:t>
              </a:r>
              <a:r>
                <a:rPr b="1" i="1" lang="es-ES_tradnl" sz="1400" spc="-1" strike="noStrike">
                  <a:solidFill>
                    <a:srgbClr val="0070c0"/>
                  </a:solidFill>
                  <a:latin typeface="Times New Roman"/>
                </a:rPr>
                <a:t> DE CONCILIACIONES DE OPERACIONES SIAF 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97" name="Text Box 617"/>
            <p:cNvSpPr/>
            <p:nvPr/>
          </p:nvSpPr>
          <p:spPr>
            <a:xfrm>
              <a:off x="1879560" y="2844720"/>
              <a:ext cx="46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a6a94"/>
                  </a:solidFill>
                  <a:latin typeface="Times New Roman"/>
                  <a:ea typeface="Arial"/>
                </a:rPr>
                <a:t>3)</a:t>
              </a:r>
              <a:endParaRPr b="1" i="1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98" name="CuadroTexto 3"/>
          <p:cNvSpPr/>
          <p:nvPr/>
        </p:nvSpPr>
        <p:spPr>
          <a:xfrm>
            <a:off x="9336240" y="6453360"/>
            <a:ext cx="1176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ea5a0c"/>
                </a:solidFill>
                <a:uFillTx/>
                <a:latin typeface="Arial Black"/>
                <a:hlinkClick r:id="rId6" action="ppaction://hlinksldjump"/>
              </a:rPr>
              <a:t>RETORNAR</a:t>
            </a:r>
            <a:endParaRPr b="1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9" name="Grupo 46" descr=""/>
          <p:cNvPicPr/>
          <p:nvPr/>
        </p:nvPicPr>
        <p:blipFill>
          <a:blip r:embed="rId7"/>
          <a:stretch/>
        </p:blipFill>
        <p:spPr>
          <a:xfrm>
            <a:off x="1884240" y="4071960"/>
            <a:ext cx="3608640" cy="585720"/>
          </a:xfrm>
          <a:prstGeom prst="rect">
            <a:avLst/>
          </a:prstGeom>
          <a:ln w="0">
            <a:noFill/>
          </a:ln>
        </p:spPr>
      </p:pic>
      <p:grpSp>
        <p:nvGrpSpPr>
          <p:cNvPr id="400" name="Rectángulo redondeado 19"/>
          <p:cNvGrpSpPr/>
          <p:nvPr/>
        </p:nvGrpSpPr>
        <p:grpSpPr>
          <a:xfrm>
            <a:off x="2133720" y="171360"/>
            <a:ext cx="8497800" cy="639720"/>
            <a:chOff x="2133720" y="171360"/>
            <a:chExt cx="8497800" cy="639720"/>
          </a:xfrm>
        </p:grpSpPr>
        <p:pic>
          <p:nvPicPr>
            <p:cNvPr id="401" name="Rectángulo redondeado 19" descr=""/>
            <p:cNvPicPr/>
            <p:nvPr/>
          </p:nvPicPr>
          <p:blipFill>
            <a:blip r:embed="rId8"/>
            <a:stretch/>
          </p:blipFill>
          <p:spPr>
            <a:xfrm>
              <a:off x="2133720" y="171360"/>
              <a:ext cx="8497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166840" y="200160"/>
              <a:ext cx="84344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O DE LA CONCILIACION EN PLATAFORMA WEB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46480" y="5075280"/>
            <a:ext cx="7589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346480" y="5906880"/>
            <a:ext cx="75895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Rectángulo 3"/>
          <p:cNvSpPr/>
          <p:nvPr/>
        </p:nvSpPr>
        <p:spPr>
          <a:xfrm>
            <a:off x="3287880" y="1197000"/>
            <a:ext cx="1008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6" name="Imagen 5" descr=""/>
          <p:cNvPicPr/>
          <p:nvPr/>
        </p:nvPicPr>
        <p:blipFill>
          <a:blip r:embed="rId1"/>
          <a:stretch/>
        </p:blipFill>
        <p:spPr>
          <a:xfrm>
            <a:off x="0" y="620640"/>
            <a:ext cx="1219212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Imagen 8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Imagen 12" descr=""/>
          <p:cNvPicPr/>
          <p:nvPr/>
        </p:nvPicPr>
        <p:blipFill>
          <a:blip r:embed="rId1"/>
          <a:stretch/>
        </p:blipFill>
        <p:spPr>
          <a:xfrm>
            <a:off x="3287880" y="490680"/>
            <a:ext cx="7267320" cy="6121080"/>
          </a:xfrm>
          <a:prstGeom prst="rect">
            <a:avLst/>
          </a:prstGeom>
          <a:ln w="0">
            <a:noFill/>
          </a:ln>
        </p:spPr>
      </p:pic>
      <p:sp>
        <p:nvSpPr>
          <p:cNvPr id="409" name="CuadroTexto 2"/>
          <p:cNvSpPr/>
          <p:nvPr/>
        </p:nvSpPr>
        <p:spPr>
          <a:xfrm>
            <a:off x="407880" y="2708280"/>
            <a:ext cx="25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46856"/>
                </a:solidFill>
                <a:latin typeface="Arial Black"/>
              </a:rPr>
              <a:t>GOBIERNO NACIONAL Y REGIONAL 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Imagen 3" descr=""/>
          <p:cNvPicPr/>
          <p:nvPr/>
        </p:nvPicPr>
        <p:blipFill>
          <a:blip r:embed="rId1"/>
          <a:stretch/>
        </p:blipFill>
        <p:spPr>
          <a:xfrm>
            <a:off x="2782800" y="11160"/>
            <a:ext cx="77058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CuadroTexto 2"/>
          <p:cNvSpPr/>
          <p:nvPr/>
        </p:nvSpPr>
        <p:spPr>
          <a:xfrm>
            <a:off x="407880" y="2708280"/>
            <a:ext cx="25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46856"/>
                </a:solidFill>
                <a:latin typeface="Arial Black"/>
              </a:rPr>
              <a:t>GOBIERNO NACIONAL Y REGIONAL 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20:11:30Z</dcterms:created>
  <dc:creator>Aldo Vallejo</dc:creator>
  <dc:description/>
  <dc:language>en-US</dc:language>
  <cp:lastModifiedBy>Canorio Salcedo, Jacinta Isabel</cp:lastModifiedBy>
  <cp:lastPrinted>2015-07-21T00:33:37Z</cp:lastPrinted>
  <dcterms:modified xsi:type="dcterms:W3CDTF">2015-11-24T21:45:08Z</dcterms:modified>
  <cp:revision>1594</cp:revision>
  <dc:subject/>
  <dc:title>Presentación de PowerPoint</dc:title>
</cp:coreProperties>
</file>